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C70-29F1-49EE-A31D-87CE101D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048-ADC8-4A1F-B1D3-4128FC39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BA9-9DF1-4EA6-95F1-2A9F9FFD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DCAD-2E9A-4DAF-86C9-A3B25A8B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219-1801-4F94-96D3-AFCE1B27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FC2-11E2-4EE6-B598-662A952B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16D-6D16-4BF4-98F6-1D03E18B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E8F-ED43-4EAB-87DF-33FEF937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86B-06CF-4797-8AD0-7986B49A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511D-11FA-4730-ABE7-24BDFBBE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6C8-6B1F-4C04-A252-4CD570A8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D488-BA54-4049-B915-2ED68014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6555-E6EA-4FBF-807D-4E5884B32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24360" y="2637000"/>
            <a:ext cx="244980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56360" y="3716280"/>
            <a:ext cx="719280" cy="504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99280" y="4149720"/>
            <a:ext cx="792000" cy="64944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32720" y="3933720"/>
            <a:ext cx="718920" cy="4334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51640" y="4365720"/>
            <a:ext cx="719280" cy="433440"/>
          </a:xfrm>
          <a:prstGeom prst="rect">
            <a:avLst/>
          </a:prstGeom>
          <a:solidFill>
            <a:srgbClr val="cddb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4365720"/>
            <a:ext cx="719280" cy="433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22920" y="4149720"/>
            <a:ext cx="719280" cy="6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6000" y="3716280"/>
            <a:ext cx="934920" cy="650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837000">
            <a:off x="0" y="764640"/>
            <a:ext cx="200160" cy="712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 rot="9208200">
            <a:off x="8820000" y="980280"/>
            <a:ext cx="21600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0"/>
            <a:ext cx="1800000" cy="1341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381800">
            <a:off x="5795640" y="3833280"/>
            <a:ext cx="360360" cy="568800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346560" y="836640"/>
            <a:ext cx="430200" cy="477720"/>
            <a:chOff x="3346560" y="836640"/>
            <a:chExt cx="430200" cy="477720"/>
          </a:xfrm>
        </p:grpSpPr>
        <p:sp>
          <p:nvSpPr>
            <p:cNvPr id="54" name=""/>
            <p:cNvSpPr/>
            <p:nvPr/>
          </p:nvSpPr>
          <p:spPr>
            <a:xfrm>
              <a:off x="334656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5280" y="1197000"/>
              <a:ext cx="7164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64000" y="119700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35280" y="1197000"/>
              <a:ext cx="71640" cy="117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2200" y="981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35280" y="1125360"/>
              <a:ext cx="69840" cy="7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3528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35280" y="981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62200" y="1125360"/>
              <a:ext cx="69840" cy="7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35280" y="9795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06920" y="8366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1964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6920" y="9079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5280" y="8366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62200" y="8366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90920" y="907920"/>
              <a:ext cx="71280" cy="716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62200" y="1197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90920" y="1125360"/>
              <a:ext cx="69840" cy="70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90920" y="10508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rot="1441200">
            <a:off x="178920" y="2852280"/>
            <a:ext cx="360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71640" y="6669000"/>
            <a:ext cx="637236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476280"/>
            <a:ext cx="2160720" cy="865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4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837000">
            <a:off x="324000" y="3212640"/>
            <a:ext cx="199800" cy="712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5648400">
            <a:off x="1266120" y="5440320"/>
            <a:ext cx="198360" cy="23763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669000"/>
            <a:ext cx="248436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400200">
            <a:off x="2771280" y="4723920"/>
            <a:ext cx="198720" cy="11937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0899200">
            <a:off x="2916000" y="4723920"/>
            <a:ext cx="198360" cy="11937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9444200">
            <a:off x="1979280" y="2133360"/>
            <a:ext cx="934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50920" y="2708280"/>
            <a:ext cx="1655640" cy="792000"/>
            <a:chOff x="2050920" y="2708280"/>
            <a:chExt cx="1655640" cy="792000"/>
          </a:xfrm>
        </p:grpSpPr>
        <p:sp>
          <p:nvSpPr>
            <p:cNvPr id="84" name=""/>
            <p:cNvSpPr/>
            <p:nvPr/>
          </p:nvSpPr>
          <p:spPr>
            <a:xfrm>
              <a:off x="2050920" y="2708280"/>
              <a:ext cx="165564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50920" y="2708280"/>
              <a:ext cx="1655640" cy="79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21448800">
            <a:off x="2484360" y="2491920"/>
            <a:ext cx="576360" cy="71928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2276640"/>
            <a:ext cx="431640" cy="71892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2205000"/>
            <a:ext cx="647640" cy="5763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95640" y="2637000"/>
            <a:ext cx="504720" cy="574560"/>
          </a:xfrm>
          <a:custGeom>
            <a:avLst/>
            <a:gdLst/>
            <a:ahLst/>
            <a:rect l="l" t="t" r="r" b="b"/>
            <a:pathLst>
              <a:path w="227" h="227">
                <a:moveTo>
                  <a:pt x="0" y="0"/>
                </a:moveTo>
                <a:cubicBezTo>
                  <a:pt x="34" y="7"/>
                  <a:pt x="68" y="15"/>
                  <a:pt x="91" y="45"/>
                </a:cubicBezTo>
                <a:cubicBezTo>
                  <a:pt x="114" y="75"/>
                  <a:pt x="114" y="151"/>
                  <a:pt x="137" y="181"/>
                </a:cubicBezTo>
                <a:cubicBezTo>
                  <a:pt x="160" y="211"/>
                  <a:pt x="193" y="219"/>
                  <a:pt x="227" y="227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4508640"/>
            <a:ext cx="1447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995600">
            <a:off x="2410920" y="4507920"/>
            <a:ext cx="373320" cy="1006200"/>
          </a:xfrm>
          <a:custGeom>
            <a:avLst/>
            <a:gdLst/>
            <a:ahLst/>
            <a:rect l="l" t="t" r="r" b="b"/>
            <a:pathLst>
              <a:path w="325" h="634">
                <a:moveTo>
                  <a:pt x="304" y="0"/>
                </a:moveTo>
                <a:cubicBezTo>
                  <a:pt x="307" y="57"/>
                  <a:pt x="312" y="110"/>
                  <a:pt x="325" y="165"/>
                </a:cubicBezTo>
                <a:cubicBezTo>
                  <a:pt x="323" y="245"/>
                  <a:pt x="323" y="325"/>
                  <a:pt x="320" y="405"/>
                </a:cubicBezTo>
                <a:cubicBezTo>
                  <a:pt x="316" y="519"/>
                  <a:pt x="251" y="556"/>
                  <a:pt x="155" y="586"/>
                </a:cubicBezTo>
                <a:cubicBezTo>
                  <a:pt x="106" y="601"/>
                  <a:pt x="69" y="623"/>
                  <a:pt x="16" y="629"/>
                </a:cubicBezTo>
                <a:cubicBezTo>
                  <a:pt x="11" y="631"/>
                  <a:pt x="0" y="634"/>
                  <a:pt x="0" y="6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768800">
            <a:off x="2411280" y="4653000"/>
            <a:ext cx="198720" cy="119376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4508640"/>
            <a:ext cx="647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66900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7640" y="6669000"/>
            <a:ext cx="363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9772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788160"/>
            <a:ext cx="179280" cy="6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9400">
            <a:off x="4320" y="4005000"/>
            <a:ext cx="360360" cy="258444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610920" y="4076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43700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76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y for man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0920" y="3286080"/>
            <a:ext cx="430200" cy="430200"/>
            <a:chOff x="250920" y="3286080"/>
            <a:chExt cx="430200" cy="430200"/>
          </a:xfrm>
        </p:grpSpPr>
        <p:sp>
          <p:nvSpPr>
            <p:cNvPr id="103" name=""/>
            <p:cNvSpPr/>
            <p:nvPr/>
          </p:nvSpPr>
          <p:spPr>
            <a:xfrm>
              <a:off x="466560" y="34304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" y="35751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964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9640" y="34304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6560" y="35751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9640" y="342900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32860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0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92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1280" y="335772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9640" y="32860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6560" y="32860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3357720"/>
              <a:ext cx="71280" cy="712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6560" y="364644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357516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5280" y="3500280"/>
              <a:ext cx="69840" cy="698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19080600">
            <a:off x="34920" y="3141360"/>
            <a:ext cx="644400" cy="253800"/>
          </a:xfrm>
          <a:custGeom>
            <a:avLst/>
            <a:gdLst/>
            <a:ahLst/>
            <a:rect l="l" t="t" r="r" b="b"/>
            <a:pathLst>
              <a:path w="406" h="160">
                <a:moveTo>
                  <a:pt x="0" y="160"/>
                </a:moveTo>
                <a:cubicBezTo>
                  <a:pt x="8" y="138"/>
                  <a:pt x="7" y="126"/>
                  <a:pt x="27" y="112"/>
                </a:cubicBezTo>
                <a:cubicBezTo>
                  <a:pt x="37" y="80"/>
                  <a:pt x="72" y="64"/>
                  <a:pt x="102" y="53"/>
                </a:cubicBezTo>
                <a:cubicBezTo>
                  <a:pt x="111" y="54"/>
                  <a:pt x="157" y="55"/>
                  <a:pt x="176" y="64"/>
                </a:cubicBezTo>
                <a:cubicBezTo>
                  <a:pt x="199" y="75"/>
                  <a:pt x="215" y="93"/>
                  <a:pt x="240" y="101"/>
                </a:cubicBezTo>
                <a:cubicBezTo>
                  <a:pt x="271" y="123"/>
                  <a:pt x="280" y="122"/>
                  <a:pt x="315" y="133"/>
                </a:cubicBezTo>
                <a:cubicBezTo>
                  <a:pt x="341" y="125"/>
                  <a:pt x="328" y="116"/>
                  <a:pt x="342" y="96"/>
                </a:cubicBezTo>
                <a:cubicBezTo>
                  <a:pt x="353" y="80"/>
                  <a:pt x="368" y="64"/>
                  <a:pt x="384" y="53"/>
                </a:cubicBezTo>
                <a:cubicBezTo>
                  <a:pt x="391" y="35"/>
                  <a:pt x="391" y="13"/>
                  <a:pt x="406" y="0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275600">
            <a:off x="0" y="3429000"/>
            <a:ext cx="826920" cy="792000"/>
          </a:xfrm>
          <a:custGeom>
            <a:avLst/>
            <a:gdLst>
              <a:gd name="textAreaLeft" fmla="*/ 181800 w 826920"/>
              <a:gd name="textAreaRight" fmla="*/ 645120 w 82692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357720"/>
            <a:ext cx="1511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ipe where all the dirt go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2133720"/>
            <a:ext cx="216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ipe where all the water goes. It goes back into the bigger p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1413000"/>
            <a:ext cx="136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nd of the dirt pipe that goes to the bucket for the manure fa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24000" y="765000"/>
            <a:ext cx="144720" cy="576360"/>
            <a:chOff x="3924000" y="765000"/>
            <a:chExt cx="144720" cy="576360"/>
          </a:xfrm>
        </p:grpSpPr>
        <p:sp>
          <p:nvSpPr>
            <p:cNvPr id="125" name=""/>
            <p:cNvSpPr/>
            <p:nvPr/>
          </p:nvSpPr>
          <p:spPr>
            <a:xfrm>
              <a:off x="3924360" y="836640"/>
              <a:ext cx="144360" cy="144360"/>
            </a:xfrm>
            <a:prstGeom prst="ellipse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3923640" y="765000"/>
              <a:ext cx="144720" cy="144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ddb1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5640" y="981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24000" y="1197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95640" y="11970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924000" y="105264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3924000" y="981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492360" y="1125360"/>
            <a:ext cx="287640" cy="216000"/>
          </a:xfrm>
          <a:custGeom>
            <a:avLst/>
            <a:gdLst>
              <a:gd name="textAreaLeft" fmla="*/ 63000 w 287640"/>
              <a:gd name="textAreaRight" fmla="*/ 224640 w 287640"/>
              <a:gd name="textAreaTop" fmla="*/ 47520 h 216000"/>
              <a:gd name="textAreaBottom" fmla="*/ 1684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0000" y="333360"/>
            <a:ext cx="172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er from the factory collecting the dirt to make manu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64720" y="666900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9072360" y="6669000"/>
            <a:ext cx="363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964720" y="6597720"/>
            <a:ext cx="108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64720" y="6788160"/>
            <a:ext cx="179280" cy="6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208800">
            <a:off x="8783280" y="1169640"/>
            <a:ext cx="360360" cy="5688000"/>
          </a:xfrm>
          <a:custGeom>
            <a:avLst/>
            <a:gdLst/>
            <a:ahLst/>
            <a:rect l="l" t="t" r="r" b="b"/>
            <a:pathLst>
              <a:path w="125" h="752">
                <a:moveTo>
                  <a:pt x="33" y="0"/>
                </a:moveTo>
                <a:cubicBezTo>
                  <a:pt x="4" y="59"/>
                  <a:pt x="0" y="137"/>
                  <a:pt x="38" y="192"/>
                </a:cubicBezTo>
                <a:cubicBezTo>
                  <a:pt x="47" y="221"/>
                  <a:pt x="62" y="250"/>
                  <a:pt x="75" y="278"/>
                </a:cubicBezTo>
                <a:cubicBezTo>
                  <a:pt x="79" y="312"/>
                  <a:pt x="78" y="336"/>
                  <a:pt x="97" y="363"/>
                </a:cubicBezTo>
                <a:cubicBezTo>
                  <a:pt x="111" y="407"/>
                  <a:pt x="113" y="488"/>
                  <a:pt x="70" y="518"/>
                </a:cubicBezTo>
                <a:cubicBezTo>
                  <a:pt x="66" y="529"/>
                  <a:pt x="55" y="538"/>
                  <a:pt x="54" y="550"/>
                </a:cubicBezTo>
                <a:cubicBezTo>
                  <a:pt x="53" y="568"/>
                  <a:pt x="61" y="647"/>
                  <a:pt x="65" y="672"/>
                </a:cubicBezTo>
                <a:cubicBezTo>
                  <a:pt x="67" y="683"/>
                  <a:pt x="73" y="697"/>
                  <a:pt x="81" y="704"/>
                </a:cubicBezTo>
                <a:cubicBezTo>
                  <a:pt x="91" y="713"/>
                  <a:pt x="113" y="726"/>
                  <a:pt x="113" y="726"/>
                </a:cubicBezTo>
                <a:cubicBezTo>
                  <a:pt x="125" y="745"/>
                  <a:pt x="123" y="736"/>
                  <a:pt x="123" y="752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290640" y="4005000"/>
            <a:ext cx="551664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0360" y="981000"/>
            <a:ext cx="151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 tunnel to a factory which gives more water for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actory installs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948000" y="836640"/>
            <a:ext cx="289080" cy="504720"/>
            <a:chOff x="6948000" y="836640"/>
            <a:chExt cx="289080" cy="504720"/>
          </a:xfrm>
        </p:grpSpPr>
        <p:sp>
          <p:nvSpPr>
            <p:cNvPr id="143" name=""/>
            <p:cNvSpPr/>
            <p:nvPr/>
          </p:nvSpPr>
          <p:spPr>
            <a:xfrm>
              <a:off x="7092720" y="836640"/>
              <a:ext cx="144360" cy="144360"/>
            </a:xfrm>
            <a:prstGeom prst="ellipse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4000" y="98100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092360" y="1197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000" y="11970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64000" y="98100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092360" y="981000"/>
              <a:ext cx="730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948000" y="90792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19640" y="836640"/>
              <a:ext cx="73080" cy="144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443640" y="0"/>
            <a:ext cx="792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from house for mo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0"/>
            <a:ext cx="1800000" cy="134136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7772600">
            <a:off x="-97560" y="1183680"/>
            <a:ext cx="411120" cy="127080"/>
          </a:xfrm>
          <a:custGeom>
            <a:avLst/>
            <a:gdLst/>
            <a:ahLst/>
            <a:rect l="l" t="t" r="r" b="b"/>
            <a:pathLst>
              <a:path w="406" h="160">
                <a:moveTo>
                  <a:pt x="0" y="160"/>
                </a:moveTo>
                <a:cubicBezTo>
                  <a:pt x="8" y="138"/>
                  <a:pt x="7" y="126"/>
                  <a:pt x="27" y="112"/>
                </a:cubicBezTo>
                <a:cubicBezTo>
                  <a:pt x="37" y="80"/>
                  <a:pt x="72" y="64"/>
                  <a:pt x="102" y="53"/>
                </a:cubicBezTo>
                <a:cubicBezTo>
                  <a:pt x="111" y="54"/>
                  <a:pt x="157" y="55"/>
                  <a:pt x="176" y="64"/>
                </a:cubicBezTo>
                <a:cubicBezTo>
                  <a:pt x="199" y="75"/>
                  <a:pt x="215" y="93"/>
                  <a:pt x="240" y="101"/>
                </a:cubicBezTo>
                <a:cubicBezTo>
                  <a:pt x="271" y="123"/>
                  <a:pt x="280" y="122"/>
                  <a:pt x="315" y="133"/>
                </a:cubicBezTo>
                <a:cubicBezTo>
                  <a:pt x="341" y="125"/>
                  <a:pt x="328" y="116"/>
                  <a:pt x="342" y="96"/>
                </a:cubicBezTo>
                <a:cubicBezTo>
                  <a:pt x="353" y="80"/>
                  <a:pt x="368" y="64"/>
                  <a:pt x="384" y="53"/>
                </a:cubicBezTo>
                <a:cubicBezTo>
                  <a:pt x="391" y="35"/>
                  <a:pt x="391" y="13"/>
                  <a:pt x="406" y="0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41360"/>
            <a:ext cx="179280" cy="5327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pe for more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75640" y="148392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3080" y="54936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80000" y="549360"/>
            <a:ext cx="21564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08000" y="549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76360" y="119700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27664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ycl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665400">
            <a:off x="5273640" y="3519360"/>
            <a:ext cx="863640" cy="107640"/>
          </a:xfrm>
          <a:prstGeom prst="rect">
            <a:avLst/>
          </a:prstGeom>
          <a:solidFill>
            <a:srgbClr val="f8a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837000">
            <a:off x="2488680" y="5770440"/>
            <a:ext cx="527040" cy="10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5661000"/>
            <a:ext cx="1368720" cy="1081080"/>
          </a:xfrm>
          <a:custGeom>
            <a:avLst/>
            <a:gdLst>
              <a:gd name="textAreaLeft" fmla="*/ 300960 w 1368720"/>
              <a:gd name="textAreaRight" fmla="*/ 1067760 w 1368720"/>
              <a:gd name="textAreaTop" fmla="*/ 237600 h 1081080"/>
              <a:gd name="textAreaBottom" fmla="*/ 843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427640"/>
            <a:ext cx="5745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00720" y="4005360"/>
            <a:ext cx="115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is any big junk they recycle it through this p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627280" y="4653000"/>
            <a:ext cx="21600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333360"/>
            <a:ext cx="1008000" cy="21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340000" y="3645000"/>
            <a:ext cx="7128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716280"/>
            <a:ext cx="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76000" y="6021360"/>
            <a:ext cx="86364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916360" y="5589720"/>
            <a:ext cx="792000" cy="57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8360" y="4797000"/>
            <a:ext cx="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95280" y="2997360"/>
            <a:ext cx="79200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4869000"/>
            <a:ext cx="15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for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40360" y="5516640"/>
            <a:ext cx="21600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0360" y="5805360"/>
            <a:ext cx="216000" cy="2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5445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to show sewage cycle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57340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to label different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6453360"/>
            <a:ext cx="122400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050920" y="-100080"/>
            <a:ext cx="44402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ttleya’s Own Sewage Syste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solar powered so it is environmentally frien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wage system recycles rubbish found from our storm water drains like plastics and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has a refined filter to get rid of toxic chemicals found in our cleaning products which are harmful to our marine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tleya’s sewage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0:09:27Z</dcterms:created>
  <dc:creator>Primary School</dc:creator>
  <dc:description/>
  <dc:language>en-US</dc:language>
  <cp:lastModifiedBy>Primary School</cp:lastModifiedBy>
  <dcterms:modified xsi:type="dcterms:W3CDTF">2009-06-10T00:06:50Z</dcterms:modified>
  <cp:revision>7</cp:revision>
  <dc:subject/>
  <dc:title>Slide 1</dc:title>
</cp:coreProperties>
</file>